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6880-BD38-4CCD-A796-C0471206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D1A5-48E7-46BF-AE97-4A68033A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0D0-69C8-48D7-80FB-A7B4C3FE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E2B-CA7D-4F9D-ABD0-4EE0CB94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F5383-3839-480B-92F0-DD9C19D7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0E26B-9AAC-4440-B3C2-DC2F4C1D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3AD15-502C-4F2A-A894-408134B4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4BB8-4E9D-44F9-AD89-08CA39BD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0287-CCB7-47D3-9D99-ACF043AE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88E9-B715-4D1E-8306-87EA9D9D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7B24-FEED-4C62-BC25-5910259D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7A2-5AEC-4503-893B-1DD48652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8D85-DBDD-46DD-B00A-D82687B7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9219-B230-4C25-AC85-C6670C99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E17B-B7FD-4833-80DB-A5ED4984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D8B6-387B-4242-93DD-0C89495FD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EEF1-52E8-4E49-8B29-AB993BD9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E05-3933-4148-B2A6-ADCB5196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BCE3-0C77-4782-B00D-3FB0FECB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1F0-2A2E-4A94-9CFA-F2F826B2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7267-33B6-460D-912C-98B123D2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EFD-6329-4F67-BE15-A55BB580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E19-2C9F-444A-9A16-656B7129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4C33-181D-49A5-943A-7D323CD6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74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2C363-E8E5-48B9-A34B-CD47D53B77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1A41-E402-4E58-9931-18872DAF8F0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666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6920" y="837720"/>
            <a:ext cx="749016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Herman Melville</a:t>
            </a:r>
            <a:br>
              <a:rPr sz="62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ugust 19 1819 - September 28 189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000" y="3733560"/>
            <a:ext cx="784836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Life and 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Captain Amasa Delano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Narrative of Voyages and Travel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44640"/>
            <a:ext cx="8153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date of the action moves from February 1805 to August 1799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cudder says this is accidental, Franklin says it is deliberate.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n Aranda is no longer thrown overboard; he is stripped of his flesh and mounted as a skeleton on the prow over the message “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Seguid vuestro jef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” – “Follow your leader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enito Cereno is no longer responsible for trying to stab the slave; instead it is Bartholomew Barlo, a fictional sailor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see </a:t>
            </a:r>
            <a:r>
              <a:rPr b="0" i="1" lang="en-GB" sz="2800" spc="-1" strike="noStrike">
                <a:solidFill>
                  <a:srgbClr val="666633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 2425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1532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though Captain Delano originally boarded the ship to make a profit, this has become a minor issue in comparison to his saving of the ship. Melville also omits the argument the two men had over salvage righ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st of the descriptions of the Spanish ship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666633"/>
                </a:solidFill>
                <a:latin typeface="Times New Roman"/>
              </a:rPr>
              <a:t>[For more details on the changes, see Franklin 529-31 and Lea 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Newman’s </a:t>
            </a:r>
            <a:r>
              <a:rPr b="0" i="1" lang="en-US" sz="2600" spc="-1" strike="noStrike">
                <a:solidFill>
                  <a:srgbClr val="666633"/>
                </a:solidFill>
                <a:latin typeface="Times New Roman"/>
              </a:rPr>
              <a:t>A Reader’s Guide to the Short Stories of Herman Melville</a:t>
            </a:r>
            <a:r>
              <a:rPr b="0" lang="en-US" sz="2600" spc="-1" strike="noStrike">
                <a:solidFill>
                  <a:srgbClr val="666633"/>
                </a:solidFill>
                <a:latin typeface="Times New Roman"/>
              </a:rPr>
              <a:t>. Boston: G. K. Hall, 1986. 98-100.]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153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igious Conc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testant vs. Catholi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cial &amp; National T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ack vs. 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rican vs. Span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udy of “Power Dynamic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o / Captain Benito Cer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Benito Cereno / Captain Amasa Del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tain Amasa Delano / his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84360" y="32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ptain Benito Cere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99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14172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6633"/>
                </a:solidFill>
                <a:latin typeface="Times New Roman"/>
              </a:rPr>
              <a:t>Captain Amasa Delan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11280" y="321300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Times New Roman"/>
              </a:rPr>
              <a:t>The Narr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40000" y="3068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66"/>
                </a:solidFill>
                <a:latin typeface="Times New Roman"/>
              </a:rPr>
              <a:t>Herman Melvil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348000" y="2276640"/>
            <a:ext cx="2376360" cy="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258920" y="2707920"/>
            <a:ext cx="0" cy="252108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11280" y="2708280"/>
            <a:ext cx="4465800" cy="244944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40000" y="2781360"/>
            <a:ext cx="360360" cy="722160"/>
          </a:xfrm>
          <a:prstGeom prst="line">
            <a:avLst/>
          </a:prstGeom>
          <a:ln w="25560">
            <a:solidFill>
              <a:srgbClr val="99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0871E-006 L 0.26388 0.29402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-0.2007 0.30468 E">
                                      <p:cBhvr>
                                        <p:cTn id="33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.55556E-007 -1.40871E-006 L -0.28733 -0.16821 E">
                                      <p:cBhvr>
                                        <p:cTn id="36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path" presetID="56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05556E-006 2.92864E-006 L 0.3033 -0.15779 E">
                                      <p:cBhvr>
                                        <p:cTn id="39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blems of Reading </a:t>
            </a:r>
            <a:r>
              <a:rPr b="0" i="1" lang="en-US" sz="40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520" y="1773360"/>
            <a:ext cx="81532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rets of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s a Game of Ch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pick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litting </a:t>
            </a:r>
            <a:r>
              <a:rPr b="0" i="1" lang="en-US" sz="27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2708280"/>
            <a:ext cx="80643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Text (noun): 2b. The very words and sentences as originally written:  […] the body of any treatise, the authoritative or formal part as distinguished from notes, appendices, introduction, and other explanatory or supplementary matter. […] L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us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u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-stem) style, tissue of a literary work (Quintilian), lit. that which is woven, web, texture, f.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t-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, ppl. stem of 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tex- re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 to weave.] (</a:t>
            </a:r>
            <a:r>
              <a:rPr b="0" i="1" lang="en-GB" sz="2300" spc="-1" strike="noStrike">
                <a:solidFill>
                  <a:srgbClr val="666633"/>
                </a:solidFill>
                <a:latin typeface="Times New Roman"/>
              </a:rPr>
              <a:t>OED</a:t>
            </a:r>
            <a:r>
              <a:rPr b="0" lang="en-GB" sz="2300" spc="-1" strike="noStrike">
                <a:solidFill>
                  <a:srgbClr val="666633"/>
                </a:solidFill>
                <a:latin typeface="Times New Roman"/>
              </a:rPr>
              <a:t>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rn in New York to an affluent (but not wealthy) family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1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her dies, leaving family in debt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arts a maritime life on a voyage to Liverpool, then joins a whaling ship.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39-1841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Jumps ship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1842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but travels around Tahiti and Honolul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346480" cy="34574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227640" y="537372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elville (in 186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Life and Work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248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Returns to Boston.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4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Marries Elizabeth Shaw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 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alcolm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Moves to Pittsfield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tanwix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Elizabeth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Frances born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rip to Liverpool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6-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ectures around the U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-6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844640"/>
            <a:ext cx="424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666633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Times New Roman"/>
              </a:rPr>
              <a:t>Typee</a:t>
            </a:r>
            <a:r>
              <a:rPr b="0" lang="en-GB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666633"/>
                </a:solidFill>
                <a:latin typeface="Times New Roman"/>
              </a:rPr>
              <a:t>[184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Omoo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ardi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and </a:t>
            </a: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Redburn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49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White-Jacket</a:t>
            </a: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1850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Moby Dick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1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Pierre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2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Isle of the Cros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3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Israel Potter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5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6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imes New Roman"/>
              </a:rPr>
              <a:t>The Confidence Man</a:t>
            </a: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 [1857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buClr>
                <a:srgbClr val="666633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66633"/>
                </a:solidFill>
                <a:latin typeface="Times New Roman"/>
              </a:rPr>
              <a:t>[Primarily shifts to poetry]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“True” Tale of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tain Amasa Delano’s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181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00" y="1844640"/>
            <a:ext cx="5256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rote the account in ch. XVIII of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to defend his actions concerning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Used logs from his ship, the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erseveranc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legal depositions, and official documents to reinforce his case against Don Benito Ceren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2892600" cy="3745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558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rom inside cover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0240" y="3573360"/>
            <a:ext cx="222120" cy="792360"/>
          </a:xfrm>
          <a:custGeom>
            <a:avLst/>
            <a:gdLst/>
            <a:ahLst/>
            <a:rect l="l" t="t" r="r" b="b"/>
            <a:pathLst>
              <a:path w="140" h="499">
                <a:moveTo>
                  <a:pt x="140" y="499"/>
                </a:moveTo>
                <a:lnTo>
                  <a:pt x="23" y="277"/>
                </a:lnTo>
                <a:cubicBezTo>
                  <a:pt x="0" y="224"/>
                  <a:pt x="2" y="225"/>
                  <a:pt x="2" y="179"/>
                </a:cubicBezTo>
                <a:cubicBezTo>
                  <a:pt x="2" y="133"/>
                  <a:pt x="20" y="37"/>
                  <a:pt x="25" y="0"/>
                </a:cubicBezTo>
              </a:path>
            </a:pathLst>
          </a:custGeom>
          <a:noFill/>
          <a:ln w="12600">
            <a:solidFill>
              <a:srgbClr val="99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2060640"/>
            <a:ext cx="719280" cy="0"/>
          </a:xfrm>
          <a:prstGeom prst="line">
            <a:avLst/>
          </a:prstGeom>
          <a:ln w="255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32720" y="213372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Benito Ceren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0400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321300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Related 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by Benito Cereno (under dures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3068640"/>
            <a:ext cx="719280" cy="0"/>
          </a:xfrm>
          <a:prstGeom prst="line">
            <a:avLst/>
          </a:prstGeom>
          <a:ln w="255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7268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Voyage of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San Dominick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4000" y="3860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parai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92000" y="4076640"/>
            <a:ext cx="287640" cy="289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635280" y="4076640"/>
            <a:ext cx="11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492000" y="4292640"/>
            <a:ext cx="28764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79880" y="35751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77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0400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Journey of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ryal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intended by slav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3068640"/>
            <a:ext cx="115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348000" y="3284640"/>
            <a:ext cx="287280" cy="28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24240" y="2998800"/>
            <a:ext cx="2185920" cy="2766960"/>
          </a:xfrm>
          <a:custGeom>
            <a:avLst/>
            <a:gdLst/>
            <a:ahLst/>
            <a:rect l="l" t="t" r="r" b="b"/>
            <a:pathLst>
              <a:path w="1377" h="1743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49" y="1743"/>
                  <a:pt x="387" y="1728"/>
                </a:cubicBezTo>
                <a:cubicBezTo>
                  <a:pt x="425" y="1713"/>
                  <a:pt x="321" y="1647"/>
                  <a:pt x="325" y="1598"/>
                </a:cubicBezTo>
                <a:cubicBezTo>
                  <a:pt x="329" y="1549"/>
                  <a:pt x="332" y="1529"/>
                  <a:pt x="410" y="1436"/>
                </a:cubicBezTo>
                <a:cubicBezTo>
                  <a:pt x="488" y="1343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885080" y="4653000"/>
            <a:ext cx="719280" cy="0"/>
          </a:xfrm>
          <a:prstGeom prst="line">
            <a:avLst/>
          </a:prstGeom>
          <a:ln w="25560">
            <a:solidFill>
              <a:srgbClr val="008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1536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anonymously in 1855 i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utnam’s Monthly Magazine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ver three issues (October to Decembe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ublished to assuage Melville’s fears of bringing in no money for his fami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-published in Melville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The Piazza Tal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in 185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tory was mostly ignored; the link betwee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and Delano’s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was only discovered in 1928 </a:t>
            </a:r>
            <a:r>
              <a:rPr b="0" lang="en-GB" sz="2800" spc="-1" strike="noStrike">
                <a:solidFill>
                  <a:srgbClr val="666633"/>
                </a:solidFill>
                <a:latin typeface="Times New Roman"/>
              </a:rPr>
              <a:t>[by Scudder]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000" y="47268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Melville’s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855):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hanges to the </a:t>
            </a:r>
            <a:r>
              <a:rPr b="0" i="1" lang="en-GB" sz="3600" spc="-1" strike="noStrike">
                <a:solidFill>
                  <a:srgbClr val="ffffff"/>
                </a:solidFill>
                <a:latin typeface="Times New Roman"/>
              </a:rPr>
              <a:t>Voyage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6337440" cy="4184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3520" y="4508640"/>
            <a:ext cx="986040" cy="1249200"/>
          </a:xfrm>
          <a:custGeom>
            <a:avLst/>
            <a:gdLst/>
            <a:ahLst/>
            <a:rect l="l" t="t" r="r" b="b"/>
            <a:pathLst>
              <a:path w="621" h="787">
                <a:moveTo>
                  <a:pt x="356" y="0"/>
                </a:moveTo>
                <a:cubicBezTo>
                  <a:pt x="399" y="23"/>
                  <a:pt x="607" y="100"/>
                  <a:pt x="614" y="140"/>
                </a:cubicBezTo>
                <a:cubicBezTo>
                  <a:pt x="621" y="180"/>
                  <a:pt x="458" y="188"/>
                  <a:pt x="398" y="240"/>
                </a:cubicBezTo>
                <a:cubicBezTo>
                  <a:pt x="339" y="292"/>
                  <a:pt x="287" y="390"/>
                  <a:pt x="260" y="455"/>
                </a:cubicBezTo>
                <a:cubicBezTo>
                  <a:pt x="233" y="520"/>
                  <a:pt x="233" y="585"/>
                  <a:pt x="238" y="631"/>
                </a:cubicBezTo>
                <a:cubicBezTo>
                  <a:pt x="243" y="677"/>
                  <a:pt x="305" y="705"/>
                  <a:pt x="291" y="731"/>
                </a:cubicBezTo>
                <a:cubicBezTo>
                  <a:pt x="277" y="757"/>
                  <a:pt x="201" y="787"/>
                  <a:pt x="153" y="785"/>
                </a:cubicBezTo>
                <a:cubicBezTo>
                  <a:pt x="105" y="783"/>
                  <a:pt x="32" y="730"/>
                  <a:pt x="0" y="716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3645000"/>
            <a:ext cx="210960" cy="1968480"/>
          </a:xfrm>
          <a:custGeom>
            <a:avLst/>
            <a:gdLst/>
            <a:ahLst/>
            <a:rect l="l" t="t" r="r" b="b"/>
            <a:pathLst>
              <a:path w="133" h="1240">
                <a:moveTo>
                  <a:pt x="133" y="1240"/>
                </a:moveTo>
                <a:cubicBezTo>
                  <a:pt x="115" y="1183"/>
                  <a:pt x="29" y="1007"/>
                  <a:pt x="23" y="899"/>
                </a:cubicBezTo>
                <a:cubicBezTo>
                  <a:pt x="17" y="791"/>
                  <a:pt x="103" y="699"/>
                  <a:pt x="100" y="591"/>
                </a:cubicBezTo>
                <a:cubicBezTo>
                  <a:pt x="97" y="483"/>
                  <a:pt x="16" y="351"/>
                  <a:pt x="8" y="253"/>
                </a:cubicBezTo>
                <a:cubicBezTo>
                  <a:pt x="0" y="155"/>
                  <a:pt x="43" y="53"/>
                  <a:pt x="52" y="0"/>
                </a:cubicBezTo>
              </a:path>
            </a:pathLst>
          </a:custGeom>
          <a:noFill/>
          <a:ln w="19080">
            <a:solidFill>
              <a:srgbClr val="0000ff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03640" y="3573360"/>
            <a:ext cx="282600" cy="801720"/>
          </a:xfrm>
          <a:custGeom>
            <a:avLst/>
            <a:gdLst/>
            <a:ahLst/>
            <a:rect l="l" t="t" r="r" b="b"/>
            <a:pathLst>
              <a:path w="178" h="505">
                <a:moveTo>
                  <a:pt x="178" y="474"/>
                </a:moveTo>
                <a:cubicBezTo>
                  <a:pt x="173" y="443"/>
                  <a:pt x="163" y="345"/>
                  <a:pt x="147" y="290"/>
                </a:cubicBezTo>
                <a:cubicBezTo>
                  <a:pt x="131" y="235"/>
                  <a:pt x="96" y="189"/>
                  <a:pt x="83" y="146"/>
                </a:cubicBezTo>
                <a:cubicBezTo>
                  <a:pt x="70" y="103"/>
                  <a:pt x="82" y="0"/>
                  <a:pt x="68" y="32"/>
                </a:cubicBezTo>
                <a:cubicBezTo>
                  <a:pt x="54" y="64"/>
                  <a:pt x="0" y="267"/>
                  <a:pt x="1" y="336"/>
                </a:cubicBezTo>
                <a:cubicBezTo>
                  <a:pt x="2" y="405"/>
                  <a:pt x="56" y="418"/>
                  <a:pt x="74" y="446"/>
                </a:cubicBezTo>
                <a:cubicBezTo>
                  <a:pt x="92" y="474"/>
                  <a:pt x="102" y="493"/>
                  <a:pt x="109" y="505"/>
                </a:cubicBezTo>
              </a:path>
            </a:pathLst>
          </a:custGeom>
          <a:noFill/>
          <a:ln w="19080">
            <a:solidFill>
              <a:srgbClr val="008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04000" y="1989000"/>
            <a:ext cx="2087640" cy="39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St. Maria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– “a small, desert, uninhabited island toward the southern extremity of the long coast of Chili” (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Benito Cereno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2405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en-GB" sz="1600" spc="-1" strike="noStrike" u="sng">
                <a:solidFill>
                  <a:srgbClr val="ffffff"/>
                </a:solidFill>
                <a:uFillTx/>
                <a:latin typeface="Times New Roman"/>
              </a:rPr>
              <a:t>2372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Note in Scudder, however: “in the vicinity of the port of Talcahuano” (530) and “the neighbouring coast of Arruco [Arauco]” (516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324240" y="2998800"/>
            <a:ext cx="2185920" cy="2809800"/>
          </a:xfrm>
          <a:custGeom>
            <a:avLst/>
            <a:gdLst/>
            <a:ahLst/>
            <a:rect l="l" t="t" r="r" b="b"/>
            <a:pathLst>
              <a:path w="1377" h="1770">
                <a:moveTo>
                  <a:pt x="15" y="906"/>
                </a:moveTo>
                <a:cubicBezTo>
                  <a:pt x="18" y="961"/>
                  <a:pt x="34" y="1138"/>
                  <a:pt x="33" y="1237"/>
                </a:cubicBezTo>
                <a:cubicBezTo>
                  <a:pt x="32" y="1336"/>
                  <a:pt x="0" y="1423"/>
                  <a:pt x="10" y="1498"/>
                </a:cubicBezTo>
                <a:cubicBezTo>
                  <a:pt x="20" y="1573"/>
                  <a:pt x="32" y="1652"/>
                  <a:pt x="95" y="1690"/>
                </a:cubicBezTo>
                <a:cubicBezTo>
                  <a:pt x="158" y="1728"/>
                  <a:pt x="334" y="1770"/>
                  <a:pt x="387" y="1728"/>
                </a:cubicBezTo>
                <a:cubicBezTo>
                  <a:pt x="440" y="1686"/>
                  <a:pt x="342" y="1551"/>
                  <a:pt x="410" y="1436"/>
                </a:cubicBezTo>
                <a:cubicBezTo>
                  <a:pt x="478" y="1321"/>
                  <a:pt x="717" y="1151"/>
                  <a:pt x="794" y="1037"/>
                </a:cubicBezTo>
                <a:cubicBezTo>
                  <a:pt x="871" y="923"/>
                  <a:pt x="814" y="825"/>
                  <a:pt x="870" y="753"/>
                </a:cubicBezTo>
                <a:cubicBezTo>
                  <a:pt x="926" y="681"/>
                  <a:pt x="1078" y="680"/>
                  <a:pt x="1132" y="607"/>
                </a:cubicBezTo>
                <a:cubicBezTo>
                  <a:pt x="1186" y="534"/>
                  <a:pt x="1152" y="416"/>
                  <a:pt x="1193" y="315"/>
                </a:cubicBezTo>
                <a:cubicBezTo>
                  <a:pt x="1234" y="214"/>
                  <a:pt x="1339" y="66"/>
                  <a:pt x="1377" y="0"/>
                </a:cubicBezTo>
              </a:path>
            </a:pathLst>
          </a:custGeom>
          <a:noFill/>
          <a:ln w="19080">
            <a:solidFill>
              <a:srgbClr val="008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48000" y="5516640"/>
            <a:ext cx="28908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3492360" y="2204640"/>
            <a:ext cx="3311640" cy="208908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635280" y="2205000"/>
            <a:ext cx="3168720" cy="3384720"/>
          </a:xfrm>
          <a:prstGeom prst="line">
            <a:avLst/>
          </a:prstGeom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3640" y="4149720"/>
            <a:ext cx="288720" cy="287280"/>
          </a:xfrm>
          <a:prstGeom prst="ellipse">
            <a:avLst/>
          </a:prstGeom>
          <a:noFill/>
          <a:ln w="1908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7T14:37:23Z</dcterms:created>
  <dc:creator>UWA</dc:creator>
  <dc:description/>
  <dc:language>en-US</dc:language>
  <cp:lastModifiedBy>UWA</cp:lastModifiedBy>
  <dcterms:modified xsi:type="dcterms:W3CDTF">2007-11-09T12:17:33Z</dcterms:modified>
  <cp:revision>10</cp:revision>
  <dc:subject/>
  <dc:title>Herman Melville</dc:title>
</cp:coreProperties>
</file>